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285-13CE-4D84-A611-2C1C512C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DFD-4266-459F-934E-BD7333F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FE5-9CE1-434F-9DCB-FB2279A2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955-541E-4029-AC0B-AF18F49D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6C1-90AA-417D-9B0F-62A7126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B00-4732-4692-9BF3-B70BA90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DFD-AC52-4595-BE86-97EABED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80C-17AB-4FBE-9D6E-E09084D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6F4-B20C-48EB-AE17-A8E9726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07B-421C-421B-A1AC-B8AB9BA0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3D3-5D03-4797-A7BF-4181322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ABD-86DE-4288-8C32-7A8C26C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044D-BECC-4354-B63E-E9FDA39C5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FD Hexane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2860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3429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2"/>
            <a:endCxn id="44" idx="1"/>
          </p:cNvCxnSpPr>
          <p:nvPr/>
        </p:nvCxnSpPr>
        <p:spPr>
          <a:xfrm flipH="1" rot="16200000">
            <a:off x="1638360" y="2933280"/>
            <a:ext cx="6861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666880" y="464832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486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988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3" idx="2"/>
            <a:endCxn id="44" idx="0"/>
          </p:cNvCxnSpPr>
          <p:nvPr/>
        </p:nvCxnSpPr>
        <p:spPr>
          <a:xfrm rot="5400000">
            <a:off x="3504600" y="2743200"/>
            <a:ext cx="305280" cy="1067040"/>
          </a:xfrm>
          <a:prstGeom prst="bentConnector5">
            <a:avLst>
              <a:gd name="adj1" fmla="val 475796"/>
              <a:gd name="adj2" fmla="val 171717"/>
              <a:gd name="adj3" fmla="val 24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3"/>
            <a:endCxn id="49" idx="2"/>
          </p:cNvCxnSpPr>
          <p:nvPr/>
        </p:nvCxnSpPr>
        <p:spPr>
          <a:xfrm flipV="1">
            <a:off x="3733920" y="4724280"/>
            <a:ext cx="8384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7" idx="1"/>
            <a:endCxn id="48" idx="0"/>
          </p:cNvCxnSpPr>
          <p:nvPr/>
        </p:nvCxnSpPr>
        <p:spPr>
          <a:xfrm flipV="1" rot="10800000">
            <a:off x="1904400" y="5105520"/>
            <a:ext cx="762480" cy="38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5715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56272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1722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6" idx="1"/>
          </p:cNvCxnSpPr>
          <p:nvPr/>
        </p:nvCxnSpPr>
        <p:spPr>
          <a:xfrm>
            <a:off x="3809880" y="6172200"/>
            <a:ext cx="305280" cy="22896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80988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590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6019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36232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981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/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slu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6576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slurry + 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038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xane/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8672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+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5638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2485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6400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048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3716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42" idx="0"/>
            <a:endCxn id="75" idx="1"/>
          </p:cNvCxnSpPr>
          <p:nvPr/>
        </p:nvCxnSpPr>
        <p:spPr>
          <a:xfrm flipH="1" flipV="1" rot="5400000">
            <a:off x="1485720" y="1714680"/>
            <a:ext cx="533880" cy="76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8" idx="3"/>
            <a:endCxn id="74" idx="2"/>
          </p:cNvCxnSpPr>
          <p:nvPr/>
        </p:nvCxnSpPr>
        <p:spPr>
          <a:xfrm flipV="1">
            <a:off x="5105520" y="3962520"/>
            <a:ext cx="1219320" cy="199440"/>
          </a:xfrm>
          <a:prstGeom prst="bentConnector4">
            <a:avLst>
              <a:gd name="adj1" fmla="val 27938"/>
              <a:gd name="adj2" fmla="val -16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0"/>
            <a:endCxn id="43" idx="3"/>
          </p:cNvCxnSpPr>
          <p:nvPr/>
        </p:nvCxnSpPr>
        <p:spPr>
          <a:xfrm flipV="1" rot="16200000">
            <a:off x="5352840" y="2076120"/>
            <a:ext cx="343440" cy="160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68580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429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1981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4479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6386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wat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62485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y Animal 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24852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6400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41148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2 Lysising B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86000"/>
            <a:ext cx="1600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876920"/>
            <a:ext cx="137160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038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657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03848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5" idx="3"/>
            <a:endCxn id="105" idx="0"/>
          </p:cNvCxnSpPr>
          <p:nvPr/>
        </p:nvCxnSpPr>
        <p:spPr>
          <a:xfrm>
            <a:off x="4952520" y="2286000"/>
            <a:ext cx="343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35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95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1676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4876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05" idx="2"/>
          </p:cNvCxnSpPr>
          <p:nvPr/>
        </p:nvCxnSpPr>
        <p:spPr>
          <a:xfrm rot="5400000">
            <a:off x="3790440" y="4743360"/>
            <a:ext cx="305640" cy="270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752480" y="6019920"/>
            <a:ext cx="8384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81080" y="4952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Mak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6172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1:10:51Z</dcterms:created>
  <dc:creator>m</dc:creator>
  <dc:description/>
  <dc:language>en-US</dc:language>
  <cp:lastModifiedBy>m</cp:lastModifiedBy>
  <dcterms:modified xsi:type="dcterms:W3CDTF">2010-02-26T01:40:33Z</dcterms:modified>
  <cp:revision>2</cp:revision>
  <dc:subject/>
  <dc:title>BFD Hexane Extraction</dc:title>
</cp:coreProperties>
</file>